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2D52-612E-45BE-9F60-027993C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6B36-ED5D-43A1-9E35-4EDB445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E0BC-4EBF-4082-88C6-B272CAAE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8E59-EA36-4471-9951-063E81A6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C616-20CA-4DA1-B713-7A48AA28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26F-D63A-4D56-B045-8BBFE57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ED24-C962-419F-B491-15D7AE96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3108-63B5-4BF6-8389-055F286D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83D-33AA-4F2F-9CD0-C82E27E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E211-6A0A-4B34-9DAB-3622C8E7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7C61-FC27-4BDF-9998-1386A3F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E218-6903-41BF-81E5-CA3F6EB9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9AAC-A4FC-4834-AB23-B791A96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19D-CEE6-40FF-9CD0-A84486E7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7DF-88F5-40C5-9937-9D5ED5D2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3845-544E-4E83-B113-434A5EFE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116-1A22-4E4A-A537-2698AA8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43B4-BF8E-4603-B8AC-62EEF0C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94C0-651C-4290-85DD-FE464F09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3346-2F7A-48FC-ACC2-4F8A198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F0DA-5EE8-4123-8A11-6A0E1E3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52A1-67BA-40A6-9401-2BD44D4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D688-2269-4608-A45B-70D521C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B02-D308-45D1-991A-E3AEB8B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F62-DDFE-4B43-8541-D70E050D0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E6E-0D9E-4208-866E-E78D3ABBA2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ip2net.com/page/m69077/10908886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W029DI30/&#1044;&#1077;&#1090;&#1080;%20&#1074;&#1086;&#1081;&#1085;&#1099;/&#1092;&#1080;&#1083;&#1100;&#1084;%208.avi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Garamond"/>
              </a:rPr>
              <a:t>Подвиги детей во время</a:t>
            </a:r>
            <a:br>
              <a:rPr sz="6000"/>
            </a:br>
            <a:r>
              <a:rPr b="1" lang="ru-RU" sz="6000" spc="-1" strike="noStrike">
                <a:solidFill>
                  <a:srgbClr val="dfd293"/>
                </a:solidFill>
                <a:latin typeface="Garamond"/>
              </a:rPr>
              <a:t>Великой Отечественной войны</a:t>
            </a:r>
            <a:br>
              <a:rPr sz="6000"/>
            </a:b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И мы не знали, что нас ждет…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6" name="Picture 9" descr="C:\Documents and Settings\Рыжов\Рабочий стол\ВРЕМЕННЫЕ ФОТО\Рисунок6.jpg"/>
          <p:cNvPicPr/>
          <p:nvPr/>
        </p:nvPicPr>
        <p:blipFill>
          <a:blip r:embed="rId1"/>
          <a:stretch/>
        </p:blipFill>
        <p:spPr>
          <a:xfrm>
            <a:off x="1571760" y="1560600"/>
            <a:ext cx="61340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01406"/>
                </a:solidFill>
                <a:latin typeface="Garamond"/>
              </a:rPr>
              <a:t>                    </a:t>
            </a:r>
            <a:r>
              <a:rPr b="1" lang="ru-RU" sz="6600" spc="-1" strike="noStrike">
                <a:solidFill>
                  <a:srgbClr val="d01406"/>
                </a:solidFill>
                <a:latin typeface="Garamond"/>
              </a:rPr>
              <a:t>Война !</a:t>
            </a:r>
            <a:endParaRPr b="1" lang="en-US" sz="6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22 июн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1941 год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10" descr="C:\Documents and Settings\Рыжов\Рабочий стол\ВРЕМЕННЫЕ ФОТО\Рисунок7.jpg"/>
          <p:cNvPicPr/>
          <p:nvPr/>
        </p:nvPicPr>
        <p:blipFill>
          <a:blip r:embed="rId1"/>
          <a:stretch/>
        </p:blipFill>
        <p:spPr>
          <a:xfrm>
            <a:off x="642960" y="1071720"/>
            <a:ext cx="3089160" cy="4568760"/>
          </a:xfrm>
          <a:prstGeom prst="rect">
            <a:avLst/>
          </a:prstGeom>
          <a:ln w="0">
            <a:noFill/>
          </a:ln>
        </p:spPr>
      </p:pic>
      <p:pic>
        <p:nvPicPr>
          <p:cNvPr id="120" name="СВЯЩЕННАЯ ВОЙН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2812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Garamond"/>
              </a:rPr>
              <a:t>Дети в блокадном </a:t>
            </a:r>
            <a:r>
              <a:rPr b="1" lang="ru-RU" sz="72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Ленинграде.</a:t>
            </a: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3" name="Picture 15" descr="C:\Documents and Settings\Рыжов\Рабочий стол\ВРЕМЕННЫЕ ФОТО\Рисунок8.jpg"/>
          <p:cNvPicPr/>
          <p:nvPr/>
        </p:nvPicPr>
        <p:blipFill>
          <a:blip r:embed="rId1"/>
          <a:stretch/>
        </p:blipFill>
        <p:spPr>
          <a:xfrm>
            <a:off x="727200" y="1187280"/>
            <a:ext cx="3344760" cy="507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C:\Documents and Settings\Рыжов\Рабочий стол\ВРЕМЕННЫЕ ФОТО\Рисунок9.jpg"/>
          <p:cNvPicPr/>
          <p:nvPr/>
        </p:nvPicPr>
        <p:blipFill>
          <a:blip r:embed="rId2"/>
          <a:stretch/>
        </p:blipFill>
        <p:spPr>
          <a:xfrm>
            <a:off x="4948200" y="1214280"/>
            <a:ext cx="34099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6" name="Picture 19" descr="C:\Documents and Settings\Рыжов\Рабочий стол\ВРЕМЕННЫЕ ФОТО\Рисунок10.jpg"/>
          <p:cNvPicPr/>
          <p:nvPr/>
        </p:nvPicPr>
        <p:blipFill>
          <a:blip r:embed="rId1"/>
          <a:stretch/>
        </p:blipFill>
        <p:spPr>
          <a:xfrm>
            <a:off x="285840" y="1833480"/>
            <a:ext cx="4692600" cy="37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C:\Documents and Settings\Рыжов\Рабочий стол\Копия (3) ВРЕМЕННЫЕ ФОТО\Рисунок1.jpg"/>
          <p:cNvPicPr/>
          <p:nvPr/>
        </p:nvPicPr>
        <p:blipFill>
          <a:blip r:embed="rId2"/>
          <a:stretch/>
        </p:blipFill>
        <p:spPr>
          <a:xfrm>
            <a:off x="5857920" y="1857240"/>
            <a:ext cx="25718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9" name="Picture 5" descr="C:\Documents and Settings\Рыжов\Рабочий стол\Копия (3) ВРЕМЕННЫЕ ФОТО\Рисунок2.jpg"/>
          <p:cNvPicPr/>
          <p:nvPr/>
        </p:nvPicPr>
        <p:blipFill>
          <a:blip r:embed="rId1"/>
          <a:stretch/>
        </p:blipFill>
        <p:spPr>
          <a:xfrm>
            <a:off x="214200" y="1000080"/>
            <a:ext cx="507204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Рыжов\Рабочий стол\Копия (3) ВРЕМЕННЫЕ ФОТО\Рисунок3.jpg"/>
          <p:cNvPicPr/>
          <p:nvPr/>
        </p:nvPicPr>
        <p:blipFill>
          <a:blip r:embed="rId2"/>
          <a:stretch/>
        </p:blipFill>
        <p:spPr>
          <a:xfrm>
            <a:off x="4071960" y="3143160"/>
            <a:ext cx="48927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2" name="Picture 5" descr="C:\Documents and Settings\Рыжов\Рабочий стол\Копия (3) ВРЕМЕННЫЕ ФОТО\Рисунок4.jpg"/>
          <p:cNvPicPr/>
          <p:nvPr/>
        </p:nvPicPr>
        <p:blipFill>
          <a:blip r:embed="rId1"/>
          <a:stretch/>
        </p:blipFill>
        <p:spPr>
          <a:xfrm>
            <a:off x="285840" y="1214280"/>
            <a:ext cx="5286240" cy="3543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Рыжов\Рабочий стол\Копия (3) ВРЕМЕННЫЕ ФОТО\Рисунок5.jpg"/>
          <p:cNvPicPr/>
          <p:nvPr/>
        </p:nvPicPr>
        <p:blipFill>
          <a:blip r:embed="rId2"/>
          <a:stretch/>
        </p:blipFill>
        <p:spPr>
          <a:xfrm>
            <a:off x="5715000" y="2643120"/>
            <a:ext cx="3208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5" name="Picture 4" descr="C:\Documents and Settings\Рыжов\Рабочий стол\Копия (3) ВРЕМЕННЫЕ ФОТО\Рисунок6.jpg"/>
          <p:cNvPicPr/>
          <p:nvPr/>
        </p:nvPicPr>
        <p:blipFill>
          <a:blip r:embed="rId1"/>
          <a:stretch/>
        </p:blipFill>
        <p:spPr>
          <a:xfrm>
            <a:off x="1500120" y="157176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293"/>
                </a:solidFill>
                <a:latin typeface="Garamond"/>
              </a:rPr>
              <a:t>ДНЕВНИК ТАНИ САВИЧЕВОЙ</a:t>
            </a:r>
            <a:br>
              <a:rPr sz="6000"/>
            </a:br>
            <a:endParaRPr b="1" lang="en-US" sz="36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7" name="i-main-pic" descr="Картинка 1 из 277"/>
          <p:cNvPicPr/>
          <p:nvPr/>
        </p:nvPicPr>
        <p:blipFill>
          <a:blip r:embed="rId1"/>
          <a:stretch/>
        </p:blipFill>
        <p:spPr>
          <a:xfrm>
            <a:off x="880920" y="1357200"/>
            <a:ext cx="7405920" cy="481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Garamond"/>
              </a:rPr>
              <a:t>Дети под оккупацией у немцев.</a:t>
            </a: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ИГРАЮТ ДЕТИ ВСЕЙ ЗЕМЛИ В ВОЙНУ,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НО РАЗВЕ О ВОЙНЕ МЕЧТАЮТ ДЕТИ?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ПУСТЬ ТОЛЬКО СМЕХ ВЗРЫВАЕТ ТИШИНУ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НА РАДОСТНОЙ БЕЗОБЛАЧНОЙ ПЛАНЕТЕ!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НАД ВЬЮГАМИ И СТУЖАМИ СЕДЫМИ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ВНОВЬ ТОРЖЕСТВУЕТ ЮНАЯ ВЕСНА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И КАК ОГОНЬ С ВОДОЙ НЕСОВМЕСТИМЫ,</a:t>
            </a: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НЕСОВМЕСТИМЫ ДЕТИ И ВОЙНА!</a:t>
            </a:r>
            <a:br>
              <a:rPr sz="3200"/>
            </a:br>
            <a:r>
              <a:rPr b="1" lang="ru-RU" sz="3600" spc="-1" strike="noStrike">
                <a:solidFill>
                  <a:srgbClr val="dfd293"/>
                </a:solidFill>
                <a:latin typeface="Garamond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Гитлеровское руководство с тупой педантичностью истребляло мирное население на всей оккупированной территории Советского Союза. </a:t>
            </a:r>
            <a:r>
              <a:rPr b="1" lang="ru-RU" sz="3000" spc="-1" strike="noStrike">
                <a:solidFill>
                  <a:srgbClr val="ffffcc"/>
                </a:solidFill>
                <a:latin typeface="Garamond"/>
              </a:rPr>
              <a:t>Массы загубленных детей перед их мучительной гибелью варварскими способами использовались в качестве живого экспериментального материала для бесчеловечных опытов «арийской медицины».</a:t>
            </a: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 Немцы организовали фабрику детской крови для нужд немецкой армии, был сформирован невольничий рынок, где шла продажа детей в рабство местным собственникам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На фото: Отряд карателей сжигает деревню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1" name="Picture 4" descr="C:\Documents and Settings\Рыжов\Рабочий стол\Копия (3) ВРЕМЕННЫЕ ФОТО\Рисунок7.jpg"/>
          <p:cNvPicPr/>
          <p:nvPr/>
        </p:nvPicPr>
        <p:blipFill>
          <a:blip r:embed="rId1"/>
          <a:stretch/>
        </p:blipFill>
        <p:spPr>
          <a:xfrm>
            <a:off x="1071720" y="1857240"/>
            <a:ext cx="69674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01406"/>
                </a:solidFill>
                <a:latin typeface="Garamond"/>
              </a:rPr>
              <a:t>Варварство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3" name="Picture 5" descr="C:\Documents and Settings\Рыжов\Рабочий стол\Копия (3) ВРЕМЕННЫЕ ФОТО\Рисунок8.jpg"/>
          <p:cNvPicPr/>
          <p:nvPr/>
        </p:nvPicPr>
        <p:blipFill>
          <a:blip r:embed="rId1"/>
          <a:stretch/>
        </p:blipFill>
        <p:spPr>
          <a:xfrm>
            <a:off x="871560" y="16128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Рыжов\Рабочий стол\Копия (3) ВРЕМЕННЫЕ ФОТО\Рисунок9.jpg"/>
          <p:cNvPicPr/>
          <p:nvPr/>
        </p:nvPicPr>
        <p:blipFill>
          <a:blip r:embed="rId2"/>
          <a:stretch/>
        </p:blipFill>
        <p:spPr>
          <a:xfrm>
            <a:off x="5072040" y="1643040"/>
            <a:ext cx="322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Garamond"/>
              </a:rPr>
              <a:t>Дети в концлагерях.</a:t>
            </a:r>
            <a:br>
              <a:rPr sz="7200"/>
            </a:b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Страшный час для </a:t>
            </a:r>
            <a:r>
              <a:rPr b="1" lang="ru-RU" sz="2900" spc="-1" strike="noStrike">
                <a:solidFill>
                  <a:srgbClr val="ffffcc"/>
                </a:solidFill>
                <a:latin typeface="Garamond"/>
              </a:rPr>
              <a:t>детей</a:t>
            </a: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 и матерей в концлагере наступал тогда, когда фашисты, выстроив матерей с детьми посреди лагеря, насильно отрывали малюток от несчастных матерей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, начиная с грудного возраста, содержались немцами отдельно и строго изолированно. </a:t>
            </a:r>
            <a:r>
              <a:rPr b="1" lang="ru-RU" sz="29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 в отдельном бараке находились в состоянии маленьких животных, лишенных даже примитивного ухода. За грудными младенцами ухаживали 5-7 летние девочки. Ежедневно немецкая охрана в больших корзинах выносила из детского барака окоченевшие трупики погибших детей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На фото: 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 Саласпилса 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8" name="Picture 4" descr="C:\Documents and Settings\Рыжов\Рабочий стол\Копия (3) ВРЕМЕННЫЕ ФОТО\Рисунок11.jpg"/>
          <p:cNvPicPr/>
          <p:nvPr/>
        </p:nvPicPr>
        <p:blipFill>
          <a:blip r:embed="rId1"/>
          <a:stretch/>
        </p:blipFill>
        <p:spPr>
          <a:xfrm>
            <a:off x="728640" y="1285920"/>
            <a:ext cx="77011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Рассказывает десятилетняя Наталья Лемешонок (в концлагерь Саласпилса попали все пятеро братьев и сестер – Наталья, Шура, Женя, Галя, Боря)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280" y="2852640"/>
            <a:ext cx="8085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ы жили в бараке, на улицу нас не пускали. Маленькая Аня постоянно плакала и просила хлеба, но у меня нечего было ей дать. Через несколько дней нас вместе с другими детьми повели в больницу. Там был немецкий врач, посреди комнаты стоял стол с разными инструментами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39640" y="692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том нас построили в ряд и сказали, что сейчас осмотрит врач. Что делал он, не было видно, но потом одна девочка очень громко закричала. Врач стал топать ногой и кричать на нее. Подойдя ближе, было видно, как врач этой девочке вколол иглу, и из руки в маленькую бутылочку текла кровь. Когда подошла моя очередь, врач вырвал у меня Аню и уложил меня на стол. Он держал иглу и вколол ее мне в рук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тем подошел к младшей сестре и проделал с ней то же самое. Все мы плакали. Врач сказал, что не стоит плакать, так как все равно мы все умрем, а так от нас будет польза… Через несколько дней у нас снова брали кровь. Аня умерла». Выжили в лагере Наталья и Бор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При кровавых расправах с заключенными в тюрьмах, где немцы расстреливали до нескольких сотен человек, исключений для детей не делали.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4" name="Picture 4" descr="C:\Documents and Settings\Рыжов\Рабочий стол\Копия (3) ВРЕМЕННЫЕ ФОТО\Рисунок12.jpg"/>
          <p:cNvPicPr/>
          <p:nvPr/>
        </p:nvPicPr>
        <p:blipFill>
          <a:blip r:embed="rId1"/>
          <a:stretch/>
        </p:blipFill>
        <p:spPr>
          <a:xfrm>
            <a:off x="1446120" y="309600"/>
            <a:ext cx="6096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3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Как-то так сложилось, что, вспоминая ужасы Великой Отечественной войны, мы говорим об убитых солдатах, военнопленных, истреблениях и унижениях мирных граждан. А ведь можно выделить еще одну категорию безвинно пострадавших – </a:t>
            </a: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.</a:t>
            </a:r>
            <a:r>
              <a:rPr b="1" lang="ru-RU" sz="48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На фото: Освобожденные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Саласпилса в 1944 г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6" name="Picture 4" descr="C:\Documents and Settings\Рыжов\Рабочий стол\Копия (3) ВРЕМЕННЫЕ ФОТО\Рисунок13.jpg"/>
          <p:cNvPicPr/>
          <p:nvPr/>
        </p:nvPicPr>
        <p:blipFill>
          <a:blip r:embed="rId1"/>
          <a:stretch/>
        </p:blipFill>
        <p:spPr>
          <a:xfrm>
            <a:off x="1290600" y="1886040"/>
            <a:ext cx="66391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Выжили не все.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8" name="Picture 6" descr="C:\Documents and Settings\Рыжов\Рабочий стол\Копия (3) ВРЕМЕННЫЕ ФОТО\Рисунок15.jpg"/>
          <p:cNvPicPr/>
          <p:nvPr/>
        </p:nvPicPr>
        <p:blipFill>
          <a:blip r:embed="rId1"/>
          <a:stretch/>
        </p:blipFill>
        <p:spPr>
          <a:xfrm>
            <a:off x="3454560" y="2997360"/>
            <a:ext cx="5546520" cy="37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Рыжов\Рабочий стол\Копия (3) ВРЕМЕННЫЕ ФОТО\Рисунок14.jpg"/>
          <p:cNvPicPr/>
          <p:nvPr/>
        </p:nvPicPr>
        <p:blipFill>
          <a:blip r:embed="rId2"/>
          <a:stretch/>
        </p:blipFill>
        <p:spPr>
          <a:xfrm>
            <a:off x="142920" y="1071720"/>
            <a:ext cx="42418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Garamond"/>
              </a:rPr>
              <a:t>Дети пионеры – герои.</a:t>
            </a:r>
            <a:br>
              <a:rPr sz="7200"/>
            </a:b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588000" y="1773360"/>
            <a:ext cx="2376720" cy="52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оевали  как взрослые на фронтах, в партизанских отрядах, в тыл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награды, носили военную одеж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C:\Documents and Settings\Рыжов\Рабочий стол\Копия (3) ВРЕМЕННЫЕ ФОТО\Рисунок16.jpg"/>
          <p:cNvPicPr/>
          <p:nvPr/>
        </p:nvPicPr>
        <p:blipFill>
          <a:blip r:embed="rId1"/>
          <a:stretch/>
        </p:blipFill>
        <p:spPr>
          <a:xfrm>
            <a:off x="262080" y="1771560"/>
            <a:ext cx="60958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65" name="Picture 5" descr="C:\Documents and Settings\Рыжов\Рабочий стол\Копия (3) ВРЕМЕННЫЕ ФОТО\Рисунок17.jpg"/>
          <p:cNvPicPr/>
          <p:nvPr/>
        </p:nvPicPr>
        <p:blipFill>
          <a:blip r:embed="rId1"/>
          <a:stretch/>
        </p:blipFill>
        <p:spPr>
          <a:xfrm>
            <a:off x="598320" y="1143000"/>
            <a:ext cx="3902400" cy="510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Рыжов\Рабочий стол\Копия (3) ВРЕМЕННЫЕ ФОТО\Рисунок18.jpg"/>
          <p:cNvPicPr/>
          <p:nvPr/>
        </p:nvPicPr>
        <p:blipFill>
          <a:blip r:embed="rId2"/>
          <a:stretch/>
        </p:blipFill>
        <p:spPr>
          <a:xfrm>
            <a:off x="5072040" y="1143000"/>
            <a:ext cx="3497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68" name="Picture 6" descr="C:\Documents and Settings\Рыжов\Рабочий стол\Копия (3) ВРЕМЕННЫЕ ФОТО\Рисунок20.jpg"/>
          <p:cNvPicPr/>
          <p:nvPr/>
        </p:nvPicPr>
        <p:blipFill>
          <a:blip r:embed="rId1"/>
          <a:stretch/>
        </p:blipFill>
        <p:spPr>
          <a:xfrm>
            <a:off x="214200" y="3560760"/>
            <a:ext cx="5072040" cy="308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Рыжов\Рабочий стол\Копия (3) ВРЕМЕННЫЕ ФОТО\Рисунок19.jpg"/>
          <p:cNvPicPr/>
          <p:nvPr/>
        </p:nvPicPr>
        <p:blipFill>
          <a:blip r:embed="rId2"/>
          <a:stretch/>
        </p:blipFill>
        <p:spPr>
          <a:xfrm>
            <a:off x="4143240" y="977760"/>
            <a:ext cx="4786560" cy="31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71" name="Picture 5" descr="C:\Documents and Settings\Рыжов\Рабочий стол\Копия (3) ВРЕМЕННЫЕ ФОТО\Рисунок21.jpg"/>
          <p:cNvPicPr/>
          <p:nvPr/>
        </p:nvPicPr>
        <p:blipFill>
          <a:blip r:embed="rId1"/>
          <a:stretch/>
        </p:blipFill>
        <p:spPr>
          <a:xfrm>
            <a:off x="914400" y="1660680"/>
            <a:ext cx="2943360" cy="457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Рыжов\Рабочий стол\Копия (3) ВРЕМЕННЫЕ ФОТО\Рисунок22.jpg"/>
          <p:cNvPicPr/>
          <p:nvPr/>
        </p:nvPicPr>
        <p:blipFill>
          <a:blip r:embed="rId2"/>
          <a:stretch/>
        </p:blipFill>
        <p:spPr>
          <a:xfrm>
            <a:off x="4786200" y="1643040"/>
            <a:ext cx="350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Дети войны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74" name="Picture 5" descr="C:\Documents and Settings\Рыжов\Рабочий стол\Копия (3) ВРЕМЕННЫЕ ФОТО\Рисунок24.jpg"/>
          <p:cNvPicPr/>
          <p:nvPr/>
        </p:nvPicPr>
        <p:blipFill>
          <a:blip r:embed="rId1"/>
          <a:stretch/>
        </p:blipFill>
        <p:spPr>
          <a:xfrm>
            <a:off x="214200" y="3000240"/>
            <a:ext cx="5369040" cy="369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Documents and Settings\Рыжов\Рабочий стол\Копия (3) ВРЕМЕННЫЕ ФОТО\Рисунок23.jpg"/>
          <p:cNvPicPr/>
          <p:nvPr/>
        </p:nvPicPr>
        <p:blipFill>
          <a:blip r:embed="rId2"/>
          <a:stretch/>
        </p:blipFill>
        <p:spPr>
          <a:xfrm>
            <a:off x="4357800" y="1214280"/>
            <a:ext cx="4628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Валя Котик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1406"/>
                </a:solidFill>
                <a:latin typeface="Garamond"/>
              </a:rPr>
              <a:t>Валя Кот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11 февраля 193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17 февраля 1944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 — пионер-гер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юный партизан-разведчик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рой Советского Союза (посмертно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5" descr="C:\Documents and Settings\Рыжов\Рабочий стол\Копия (3) ВРЕМЕННЫЕ ФОТО\Рисунок25.jpg"/>
          <p:cNvPicPr/>
          <p:nvPr/>
        </p:nvPicPr>
        <p:blipFill>
          <a:blip r:embed="rId1"/>
          <a:stretch/>
        </p:blipFill>
        <p:spPr>
          <a:xfrm>
            <a:off x="428760" y="1357200"/>
            <a:ext cx="373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Леня Голиков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1406"/>
                </a:solidFill>
                <a:latin typeface="Times New Roman"/>
              </a:rPr>
              <a:t>Леня Гол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1926 -194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росток-партиз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ригадный разведчик, участвовал в 27 боевых операциях. Особенно отличился при разгроме немецких гарнизонов в деревнях Апросово, Сосницы, Севе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5" descr="C:\Documents and Settings\Рыжов\Рабочий стол\Копия (3) ВРЕМЕННЫЕ ФОТО\Рисунок27.jpg"/>
          <p:cNvPicPr/>
          <p:nvPr/>
        </p:nvPicPr>
        <p:blipFill>
          <a:blip r:embed="rId1"/>
          <a:stretch/>
        </p:blipFill>
        <p:spPr>
          <a:xfrm>
            <a:off x="714240" y="1357200"/>
            <a:ext cx="340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01406"/>
                </a:solidFill>
                <a:latin typeface="Garamond"/>
              </a:rPr>
              <a:t>Дети войны</a:t>
            </a:r>
            <a:endParaRPr b="1" lang="en-US" sz="9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 в блокадном Ленинград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 под акупацией у немцев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 в концлагерях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 пионеры – геро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Дети в тыл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Марат Казей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055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1406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d01406"/>
                </a:solidFill>
                <a:latin typeface="Times New Roman"/>
              </a:rPr>
              <a:t>Марат Казе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29 октября 1929     — 11 мая 1944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ионер-герой, юный партизан-разведчик, Герой Советского Союза (посмертн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5" descr="C:\Documents and Settings\Рыжов\Рабочий стол\Копия (3) ВРЕМЕННЫЕ ФОТО\Рисунок28.jpg"/>
          <p:cNvPicPr/>
          <p:nvPr/>
        </p:nvPicPr>
        <p:blipFill>
          <a:blip r:embed="rId1"/>
          <a:stretch/>
        </p:blipFill>
        <p:spPr>
          <a:xfrm>
            <a:off x="220680" y="1500120"/>
            <a:ext cx="47800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Garamond"/>
              </a:rPr>
              <a:t>Дети в тылу.</a:t>
            </a:r>
            <a:endParaRPr b="1" lang="en-US" sz="8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Дети в тылу.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шли на фронт родител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чизну защищать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нам - детишкам маленьким-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ошку убир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вчоночья бригад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ять-двенадцать лет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выполняли честно м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ьский завет…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язали варежки, носк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фронт их отсылал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тем победу над врагом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варным приближ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C:\Documents and Settings\Рыжов\Рабочий стол\Копия (3) ВРЕМЕННЫЕ ФОТО\Рисунок29.jpg"/>
          <p:cNvPicPr/>
          <p:nvPr/>
        </p:nvPicPr>
        <p:blipFill>
          <a:blip r:embed="rId1"/>
          <a:stretch/>
        </p:blipFill>
        <p:spPr>
          <a:xfrm>
            <a:off x="246240" y="1571760"/>
            <a:ext cx="50400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Дети в тылу.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90" name="Picture 5" descr="C:\Documents and Settings\Рыжов\Рабочий стол\Копия (3) ВРЕМЕННЫЕ ФОТО\Рисунок30.jpg"/>
          <p:cNvPicPr/>
          <p:nvPr/>
        </p:nvPicPr>
        <p:blipFill>
          <a:blip r:embed="rId1"/>
          <a:stretch/>
        </p:blipFill>
        <p:spPr>
          <a:xfrm>
            <a:off x="212760" y="1285920"/>
            <a:ext cx="3573360" cy="5181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Рыжов\Рабочий стол\Копия (3) ВРЕМЕННЫЕ ФОТО\Рисунок31.jpg"/>
          <p:cNvPicPr/>
          <p:nvPr/>
        </p:nvPicPr>
        <p:blipFill>
          <a:blip r:embed="rId2"/>
          <a:stretch/>
        </p:blipFill>
        <p:spPr>
          <a:xfrm>
            <a:off x="3862440" y="2239920"/>
            <a:ext cx="51386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усть чисто будет небо над землей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усть жизни мирной радуются люди!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i="1" lang="ru-RU" sz="4400" spc="-1" strike="noStrike">
                <a:solidFill>
                  <a:srgbClr val="ffffcc"/>
                </a:solidFill>
                <a:latin typeface="Garamond"/>
              </a:rPr>
              <a:t>Вас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, кто рядом был с </a:t>
            </a:r>
            <a:r>
              <a:rPr b="1" i="1" lang="ru-RU" sz="4400" spc="-1" strike="noStrike">
                <a:solidFill>
                  <a:srgbClr val="d01406"/>
                </a:solidFill>
                <a:latin typeface="Garamond"/>
              </a:rPr>
              <a:t>войной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Мы помним, бережем и любим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ПОМНИМ !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94" name="Picture 5" descr="C:\Documents and Settings\Рыжов\Рабочий стол\Копия (3) ВРЕМЕННЫЕ ФОТО\Рисунок35.jpg"/>
          <p:cNvPicPr/>
          <p:nvPr/>
        </p:nvPicPr>
        <p:blipFill>
          <a:blip r:embed="rId2"/>
          <a:stretch/>
        </p:blipFill>
        <p:spPr>
          <a:xfrm>
            <a:off x="714240" y="1428840"/>
            <a:ext cx="3576600" cy="490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Documents and Settings\Рыжов\Рабочий стол\Копия (3) ВРЕМЕННЫЕ ФОТО\Рисунок36.jpg"/>
          <p:cNvPicPr/>
          <p:nvPr/>
        </p:nvPicPr>
        <p:blipFill>
          <a:blip r:embed="rId3"/>
          <a:stretch/>
        </p:blipFill>
        <p:spPr>
          <a:xfrm>
            <a:off x="4786200" y="1428840"/>
            <a:ext cx="3502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452600" y="2160360"/>
            <a:ext cx="7007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 Black"/>
              </a:rPr>
              <a:t>"Давайте, люди, никогда об этом не забудем!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день победы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1861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ыло мирное время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грали, росли и не было у них забот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6" name="Picture 7" descr="C:\Documents and Settings\Рыжов\Рабочий стол\ВРЕМЕННЫЕ ФОТО\Рисунок1.jpg"/>
          <p:cNvPicPr/>
          <p:nvPr/>
        </p:nvPicPr>
        <p:blipFill>
          <a:blip r:embed="rId1"/>
          <a:stretch/>
        </p:blipFill>
        <p:spPr>
          <a:xfrm>
            <a:off x="2681280" y="2143080"/>
            <a:ext cx="3676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Папа был рядом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8" name="Picture 7" descr="C:\Documents and Settings\Рыжов\Рабочий стол\ВРЕМЕННЫЕ ФОТО\Рисунок2.jpg"/>
          <p:cNvPicPr/>
          <p:nvPr/>
        </p:nvPicPr>
        <p:blipFill>
          <a:blip r:embed="rId1"/>
          <a:stretch/>
        </p:blipFill>
        <p:spPr>
          <a:xfrm>
            <a:off x="1779480" y="1860480"/>
            <a:ext cx="543564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Мама была рядом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0" name="Picture 7" descr="C:\Documents and Settings\Рыжов\Рабочий стол\ВРЕМЕННЫЕ ФОТО\Рисунок3.jpg"/>
          <p:cNvPicPr/>
          <p:nvPr/>
        </p:nvPicPr>
        <p:blipFill>
          <a:blip r:embed="rId1"/>
          <a:stretch/>
        </p:blipFill>
        <p:spPr>
          <a:xfrm>
            <a:off x="1643040" y="1587600"/>
            <a:ext cx="5734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Мы играли на улицах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2" name="Picture 9" descr="C:\Documents and Settings\Рыжов\Рабочий стол\ВРЕМЕННЫЕ ФОТО\Рисунок4.jpg"/>
          <p:cNvPicPr/>
          <p:nvPr/>
        </p:nvPicPr>
        <p:blipFill>
          <a:blip r:embed="rId1"/>
          <a:stretch/>
        </p:blipFill>
        <p:spPr>
          <a:xfrm>
            <a:off x="2163600" y="2265480"/>
            <a:ext cx="48373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У нас было веселое детство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4" name="Picture 7" descr="C:\Documents and Settings\Рыжов\Рабочий стол\ВРЕМЕННЫЕ ФОТО\Рисунок5.jpg"/>
          <p:cNvPicPr/>
          <p:nvPr/>
        </p:nvPicPr>
        <p:blipFill>
          <a:blip r:embed="rId1"/>
          <a:stretch/>
        </p:blipFill>
        <p:spPr>
          <a:xfrm>
            <a:off x="1143000" y="1800360"/>
            <a:ext cx="688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35:01Z</dcterms:created>
  <dc:creator>Сергей Павлович:-)</dc:creator>
  <dc:description/>
  <dc:language>en-US</dc:language>
  <cp:lastModifiedBy>Сергей Шальнов</cp:lastModifiedBy>
  <dcterms:modified xsi:type="dcterms:W3CDTF">2014-02-20T14:12:54Z</dcterms:modified>
  <cp:revision>67</cp:revision>
  <dc:subject/>
  <dc:title>Слайд 1</dc:title>
</cp:coreProperties>
</file>